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15F8-ACBD-4F3A-BAD1-116F99C01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5D09-8F7E-4220-A2CE-30487807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FCB9-2507-457E-82A8-7EA84255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90CF-252B-437D-B25B-E9162B44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085F-00B9-4F11-8F8B-E1A68BE6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2613-B1AC-4D98-986A-1E8CE068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1A1D-EB36-4B71-9B83-9C3F485E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7E40-26FC-44B6-804E-9BB4298E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012F-04B5-477B-BC98-E01AAD6A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4DE8-4966-4604-8C3A-ED31045C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DD65-123A-4D1E-BE9C-6930266E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9C98-1BC0-46B5-8EFF-1620F482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4508-2415-432A-B276-A05957F1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54E6-FA3C-473D-9118-139C2EA9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545E-F281-46D6-9646-C47C6F7F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BF6B-0D14-490E-8B1F-D00A2658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374C-641C-471C-9FD5-ECF131BC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99DC-3515-4869-8E74-FFE31501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9827-4EE0-41C4-86B7-484DACCF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4750-419B-4B2F-AFE5-78837156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E7AE-F09D-41DF-AF8E-8CB5E3D2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2D8E-4ECD-4547-947E-466C36AB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355E-79E6-480B-BE4C-90D1D74B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AC40-3714-4D88-B7A8-27C31702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102F-D201-44AA-AE79-0C4910DA82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67F4-F8D2-454F-8632-86A3F65A94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google.com/imgres?imgurl=http://www.photobirds.com/templates/default/images_pubs/bird_skeleton.jpg&amp;imgrefurl=http://www.photobirds.com/pub_8_Avian_skeleton.html&amp;h=520&amp;w=350&amp;sz=26&amp;tbnid=5Qu_deVHKR2XJM:&amp;tbnh=274&amp;tbnw=184&amp;prev=/images%3Fq%3Dskeleton%2Bof%2Bbird&amp;zoom=1&amp;q=skeleton+of+bird&amp;hl=en&amp;usg=__cHm7oP2Yc6grbpKwcZk1g45kkQA=&amp;sa=X&amp;ei=_DiFTJi-NsP6lwf99LmGDg&amp;ved=0CBYQ9QEwAA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www.google.com/imgres?imgurl=http://www.statesymbolsusa.org/IMAGES/Illinois/NorthernCardinal2.jpg&amp;imgrefurl=http://www.statesymbolsusa.org/Illinois/bird_cardinal.html&amp;h=374&amp;w=334&amp;sz=24&amp;tbnid=Lv5eLlTHJRAABM:&amp;tbnh=238&amp;tbnw=212&amp;prev=/images%3Fq%3Dphoto%2Bof%2Bcardinal&amp;zoom=1&amp;q=photo+of+cardinal&amp;hl=en&amp;usg=__BuryGEtdPbXywFstqiOxNyAtin0=&amp;sa=X&amp;ei=sTmFTJfrLYP7lwf1ian1Dw&amp;ved=0CBkQ9QEwAQ" TargetMode="External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hyperlink" Target="http://www.google.com/imgres?imgurl=http://static.howstuffworks.com/gif/frog-1.jpg&amp;imgrefurl=http://animals.howstuffworks.com/amphibians/frog.htm&amp;h=349&amp;w=400&amp;sz=22&amp;tbnid=WneiJ9aXOx4U2M:&amp;tbnh=108&amp;tbnw=124&amp;prev=/images%3Fq%3Dphoto%2Bof%2Bfrog&amp;zoom=1&amp;q=photo+of+frog&amp;hl=en&amp;usg=__WVGmIrnR0pkzoB_SN1ML7TH6MyQ=&amp;sa=X&amp;ei=9jmFTLfZNsT_lgeyqpXQDw&amp;ved=0CCEQ9QEwAA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www.google.com/imgres?imgurl=http://www.digitalfrog.com/resources/archives/skeleton.jpg&amp;imgrefurl=http://www.digitalfrog.com/resources/froggallery.html&amp;h=414&amp;w=354&amp;sz=46&amp;tbnid=D0UucdXPA4j2cM:&amp;tbnh=125&amp;tbnw=107&amp;prev=/images%3Fq%3Dskeleton%2Bof%2Bfrog&amp;zoom=1&amp;q=skeleton+of+frog&amp;hl=en&amp;usg=__zFygvn3ySX2fZEbbwYsjshtjqZI=&amp;sa=X&amp;ei=JTqFTNH0EIOClAeFzcSMDg&amp;ved=0CCIQ9QEwBg" TargetMode="Externa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en.wikipedia.org/wiki/File:Snake_skeleton.jpg" TargetMode="External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hyperlink" Target="http://www.google.com/imgres?imgurl=http://www.learning-graph.com/images/clownfish.jpg&amp;imgrefurl=http://www.learning-graph.com/look-and-tell.htm&amp;usg=__ao3nhQ0vFDoLaitkoQDIwzLj1E8=&amp;h=640&amp;w=800&amp;sz=162&amp;hl=en&amp;start=7&amp;zoom=1&amp;um=1&amp;itbs=1&amp;tbnid=0ay8bf-PASmSZM:&amp;tbnh=114&amp;tbnw=143&amp;prev=/images%3Fq%3Dphoto%2Bof%2Bfish%26um%3D1%26hl%3Den%26sa%3DX%26tbs%3Disch:1" TargetMode="External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Vertebrat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imals with Backbo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mm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m bloo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hair or f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milk to their yo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s live bi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4876920" y="3581280"/>
            <a:ext cx="3429000" cy="2732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5334120" y="1295280"/>
            <a:ext cx="266688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s eg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vered in fea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wings and bea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m bloo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an f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0880" y="838080"/>
            <a:ext cx="1782720" cy="2667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133720" y="3657600"/>
            <a:ext cx="2109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mphibia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820600"/>
            <a:ext cx="822960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have smooth and perhaps slimey sk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d bloo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 lives in water then change physically to go live on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 eg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880" y="304920"/>
            <a:ext cx="2210040" cy="1942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05720" y="457200"/>
            <a:ext cx="1849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pti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vered with sc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d bloo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y eg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shed sk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life independen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Snake skeleton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48320" y="3962520"/>
            <a:ext cx="4171680" cy="2332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copperhead1"/>
          <p:cNvPicPr/>
          <p:nvPr/>
        </p:nvPicPr>
        <p:blipFill>
          <a:blip r:embed="rId8"/>
          <a:stretch/>
        </p:blipFill>
        <p:spPr>
          <a:xfrm>
            <a:off x="228600" y="3962520"/>
            <a:ext cx="426708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im in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d bloo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tch from soft jelly like eg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ves in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eath with g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vered in sc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off life independent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have slimey co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724280" y="1828800"/>
            <a:ext cx="2286000" cy="18223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1"/>
          <a:stretch/>
        </p:blipFill>
        <p:spPr>
          <a:xfrm>
            <a:off x="5791320" y="4038480"/>
            <a:ext cx="266688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18:52:19Z</dcterms:created>
  <dc:creator>Gary</dc:creator>
  <dc:description/>
  <dc:language>en-US</dc:language>
  <cp:lastModifiedBy>Gina.Losey</cp:lastModifiedBy>
  <dcterms:modified xsi:type="dcterms:W3CDTF">2010-09-07T13:28:17Z</dcterms:modified>
  <cp:revision>8</cp:revision>
  <dc:subject/>
  <dc:title>Vertebrates</dc:title>
</cp:coreProperties>
</file>